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014-2DD5-4EA9-86E2-5693413D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DD7-9CA3-4698-8E26-853A9E7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2D9-DE06-4D11-9CD2-FC9EAFED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220-F943-46B4-BFAF-4245A8AF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855-EA61-4AA6-AC99-9D0C7982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C91-1540-4EBA-B717-A53EC73A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4B9-3B90-462C-8FF2-1324B167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95B-73A6-4EA0-B7C3-11A2382D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4BE-275F-4076-B30F-ACB64774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13D-CB7E-447C-B7B6-BC4A571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4F9-AF9B-40EA-B373-276288E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CD8-7BF2-45BC-9E90-DEAAC7DA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BBAB-17A7-43FC-8481-925A645C392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-228600"/>
            <a:ext cx="79725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lling Sound Patter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3657600"/>
            <a:ext cx="3152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ook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ncy Blankensh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3049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sh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16360" y="1523880"/>
            <a:ext cx="3943440" cy="504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90720" y="266688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Sh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means that something has already been shaken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2860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97160" y="914400"/>
            <a:ext cx="5046840" cy="466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971800"/>
            <a:ext cx="312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b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is something you can read.  There are many good books to read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860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43400" y="1117440"/>
            <a:ext cx="4389480" cy="4621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2438280"/>
            <a:ext cx="3124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c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is a person who prepares food for others. 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c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can work in a restauran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860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18360" y="533520"/>
            <a:ext cx="1957320" cy="573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2514600"/>
            <a:ext cx="358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h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is a curved, sharp piece of metal that can be put on the end of a fishing line.  It can catch a fish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4727520" cy="469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114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You ca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loo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with your ey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286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970520" y="609480"/>
            <a:ext cx="346068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31240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n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is a small area somewhere, like in a hous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286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t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5790960" cy="334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2880" y="609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T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means something has already been taken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br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566960" cy="353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520" y="762120"/>
            <a:ext cx="335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br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is a small stream of water—smaller than a river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28600"/>
            <a:ext cx="64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cr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 Black"/>
              </a:rPr>
              <a:t>ook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592880" cy="4376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2438280"/>
            <a:ext cx="320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r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is a thief or robber.  A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rook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is not an honest and truthful person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3:21:38Z</dcterms:created>
  <dc:creator>Nancy Blankenship</dc:creator>
  <dc:description/>
  <dc:language>en-US</dc:language>
  <cp:lastModifiedBy>GCS User</cp:lastModifiedBy>
  <dcterms:modified xsi:type="dcterms:W3CDTF">2003-12-15T02:22:27Z</dcterms:modified>
  <cp:revision>8</cp:revision>
  <dc:subject/>
  <dc:title>PowerPoint Presentation</dc:title>
</cp:coreProperties>
</file>